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648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19DF-8239-4B98-AD22-0E5E2F4D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AA83-8DA0-47C9-B820-6E372573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terials requir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 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is workshop is delivered by a nominated presenter,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tructions for the presenter are written in regula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logue for the presenters is written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ld tex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session has been designed as a ‘stand alone’ session so that an individual , pair or group can work through the session independently by reflecting and/ or discussing the information pres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5F5D-6902-4498-9E30-858561AA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500120" y="357120"/>
            <a:ext cx="3857760" cy="2892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71320" y="3357720"/>
            <a:ext cx="571500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Understanding explicit and systematic literacy teaching: A process for explicit and systematic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ad the first page and highlight ke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process places equal emphasis on all three phases and that often th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phase is neglected or omitted. Emphas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continuous cycle of assessing, teaching and learning. The circular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eaching and learning cycle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as an earlier version of this continuou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place of modelled, guided and independent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plain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s you progress through th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trand of the course you will be actively implementing this process in your classroom with you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fer to the next page which provides a more full-some description of the phases in the process. Read the first phase of the process,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ssessment for/of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scuss as a group any implications for asse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the same process for the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e’ll now look at explicit, systematic, balanced and integrated literacy teaching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84EA-C364-40B8-8691-27E3E0E08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57160" y="4143240"/>
            <a:ext cx="514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100" spc="-1" strike="noStrike">
                <a:solidFill>
                  <a:srgbClr val="000000"/>
                </a:solidFill>
                <a:latin typeface="Arial"/>
              </a:rPr>
              <a:t>Explicit, systematic, balanced and integrated literacy te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Allow 30 minutes for this activ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video you are about to view is part of  the footage that supports </a:t>
            </a:r>
            <a:r>
              <a:rPr b="1" i="1" lang="en-AU" sz="1100" spc="-1" strike="noStrike">
                <a:solidFill>
                  <a:srgbClr val="000000"/>
                </a:solidFill>
                <a:latin typeface="Arial"/>
              </a:rPr>
              <a:t>An Introduction to quality literacy teaching.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full video is available on the Literacy Unit website</a:t>
            </a:r>
            <a:r>
              <a:rPr b="0" i="1" lang="en-AU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Explain that: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As you view this footage, you will be listening for main messages about explicit, systematic, balanced and integrated literacy teaching and looking for evidence of the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Allow time for a brief discussion with whole grou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Link: 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mini task associated with this session will help you to not only reflect on, but also consolidate your learning from this se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710B-D961-4EED-8629-DDE1D9B9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 Participant workbook: 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Say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fer to the sheet,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 Say something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in your workbook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ad the procedure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flect and/or discuss and recor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o consolidate your learning it is recommended that you complete the following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BA0-2EB0-4DB4-976D-257AEFC2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information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6454-E66A-49C4-AA9C-D54FE2D2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17F0-FBBB-4708-9682-2E5A6542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7E6-63A9-457E-93B5-19FD4BB0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Country where it is appropriate to do s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protocols if Aboriginal participants are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Aboriginal participants to do Welcome/Acknowledgement of Country. If none, proceed to do this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321-15ED-4460-990F-531BC40EC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e tha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the Professional Teaching Standards covered in this worksho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e will now look at the overview for this s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6038-4879-45DE-8D85-EF1338C6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ession explores the background to, and practical application of, explicit, systematic, balanced and integrated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’ll start by building a shared understanding of what is meant by ‘cornerstones’ and their importance in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A68D-B3B9-4BF9-94E1-F4AF499F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The cornerstones of quality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LICK to bring in each of the four cornerst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: Refer to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he cornerstones of quality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age in your workbook and take a few minutes to jot down what you believe each of these word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xplicit, systematic, balanced and integrated have been identified as cornerstones. Let’s have a look at why they are referred to as cornerst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D38-F861-43F8-98AC-71E13164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Literacy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inforce the concept of cornerstones by explai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rnerstone (or foundation stone) concept is derived from the first stone set in the construction of a masonry foundation, important since all other stones will be set in reference to this stone, thus determining the position of the entire structur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kipedia)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f one cornerstone  is pulled out, the structure will topple o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LICK for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n introduction to quality literacy teaching (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14 and p15) provides some background informa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bout the importance of quality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e’ll now look closely at balanced and integrated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674-92D2-4767-BD9F-ED42A3FC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Balanced and integrated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: Read the pag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Balanced and integrated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nd highlight any ke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mphasise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ften ‘balanced and integrated’ refers to a balanced and integrated reading program. An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Introduction to quality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describes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balanced and integrated in much broader terms. In this sense balanced and integrated literacy teaching ensur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tudents are equipped with the full range of literacy capabilities they need when they are reading, writing, listening and spe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aching of these literacy capabilities is embedded in real and authentic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Four Literacy Resources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model has been used to support teachers to ensure balance and integra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85F-D1B4-4E86-A41F-8886C544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71680" y="4143240"/>
            <a:ext cx="557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nderstanding balanced and integrated literacy teaching: The Four Literacy Resources model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Explain that: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AU" sz="1100" spc="-1" strike="noStrike">
                <a:solidFill>
                  <a:srgbClr val="000000"/>
                </a:solidFill>
                <a:latin typeface="Arial"/>
              </a:rPr>
              <a:t>Four Literacy Resources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model illustrates the kinds of literacy capabilities required by students to interact with and create any print-based, spoken, visual or digital text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model organises literacy capabilities into four key literacy resources as shown on the slide: code-breaking, meaning-making, text-using, text-analysing. When effective literacy learners interact with texts, they draw on these four resources in an integrated wa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Key points includ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t is necessary to</a:t>
            </a:r>
            <a:r>
              <a:rPr b="1" lang="en-US" sz="1100" spc="-1" strike="noStrike">
                <a:solidFill>
                  <a:srgbClr val="2d2d8a"/>
                </a:solidFill>
                <a:latin typeface="Arial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r>
              <a:rPr b="1" lang="en-US" sz="1100" spc="-1" strike="noStrike">
                <a:solidFill>
                  <a:srgbClr val="2d2d8a"/>
                </a:solidFill>
                <a:latin typeface="Arial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our literacy resour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need to explicitly teach the various resour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resources are not hierarchical or developmentally based. The acquisition of knowledge and skills is not to be considered in a linear mann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sk participants to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efer to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nderstanding balanced and integrated literacy teaching: The Four Resources mode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and read through the definitions for the resources. (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quality literacy teaching p18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nk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e’ll now look at explicit and systematic literacy teaching in more detai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5D3E-8C23-4B3C-BB03-CF3C94F1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1432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Explicit and systematic literacy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: Read the page,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Explicit and systematic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nd highlight any ke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mphasise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xplicit and systematic teaching means much more that providing explicit instructions. It should not be confused with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drill and practice or a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turn to authoritarian classrooms where teachers tell and test and where students memorise and regurgitate. Most importantly it involves the deliberate explanation and demonstration of new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 process for explicit and systematic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rovides a detailed scaffold to support teachers understand and implement an explicit and systematic approach to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B16-B88A-449B-AEA3-AD28AA7B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EB9-00C6-421B-8310-8ED3D49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F4E-3BE0-4F1C-939D-B7B2ADFA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A13-978B-4FF2-BCCC-A2AF4F3A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D984-FE67-46FD-B017-B5113C0A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3DD-5556-4D78-BC58-97BE5A97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7152-1BCB-43E7-8930-AE6110E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C1E4-6256-43E9-9BDB-A9084EA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E10-E41D-4363-B3E7-331C3F8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E79F-4963-455C-ABD9-E0989FB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0EF0-D971-4EBA-AEC4-0E404A43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E32-54FE-4A22-820A-A8CBE63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4BA-F706-4A90-B908-B9BD6B0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BB6A-BBD1-4EC3-BC3E-FD39A75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2F9-2D08-4E11-8DF4-6A7496EB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45E6-2A86-4328-BAFD-BF25D6CF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F30A-CD5A-4C0B-AE5F-F3E68E9B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C7C-F62B-482B-AE7C-729CB88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22E-9439-4DC9-8694-071BDF1D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5E7-511F-4A86-BC01-4C3B7A3F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B80-838A-43A7-B96A-3BC09F89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954-49F9-4293-9747-0986E6D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6F6-7E9C-4BEA-8218-36721FB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EE5-A152-4C05-A9D0-1C4F8BD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C505-E639-43E9-A334-A7227C82D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648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4" descr="shape_banner.eps"/>
          <p:cNvPicPr/>
          <p:nvPr/>
        </p:nvPicPr>
        <p:blipFill>
          <a:blip r:embed="rId2"/>
          <a:srcRect l="21747" t="0" r="0" b="0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648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715080" y="6143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285480" y="6215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FADA-42B7-4FAB-964F-39DBE969F2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0" descr="CEClogoCMYK"/>
          <p:cNvPicPr/>
          <p:nvPr/>
        </p:nvPicPr>
        <p:blipFill>
          <a:blip r:embed="rId1"/>
          <a:stretch/>
        </p:blipFill>
        <p:spPr>
          <a:xfrm>
            <a:off x="7715160" y="5429160"/>
            <a:ext cx="93348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1" descr="AISlogoCMYK"/>
          <p:cNvPicPr/>
          <p:nvPr/>
        </p:nvPicPr>
        <p:blipFill>
          <a:blip r:embed="rId2"/>
          <a:stretch/>
        </p:blipFill>
        <p:spPr>
          <a:xfrm>
            <a:off x="5072040" y="5526000"/>
            <a:ext cx="1285920" cy="13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New_DET_logo.eps"/>
          <p:cNvPicPr/>
          <p:nvPr/>
        </p:nvPicPr>
        <p:blipFill>
          <a:blip r:embed="rId3"/>
          <a:stretch/>
        </p:blipFill>
        <p:spPr>
          <a:xfrm>
            <a:off x="2071800" y="5929200"/>
            <a:ext cx="2031840" cy="704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shape_banner.eps"/>
          <p:cNvPicPr/>
          <p:nvPr/>
        </p:nvPicPr>
        <p:blipFill>
          <a:blip r:embed="rId4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FoR logo"/>
          <p:cNvPicPr/>
          <p:nvPr/>
        </p:nvPicPr>
        <p:blipFill>
          <a:blip r:embed="rId5"/>
          <a:stretch/>
        </p:blipFill>
        <p:spPr>
          <a:xfrm>
            <a:off x="2895480" y="1382760"/>
            <a:ext cx="4792680" cy="333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85960" y="-36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357200" y="4786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23669d"/>
                </a:solidFill>
                <a:latin typeface="Arial"/>
                <a:ea typeface="Arial"/>
              </a:rPr>
              <a:t>Self-paced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752480" y="155736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28840" y="0"/>
            <a:ext cx="7715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  <a:ea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A process for explicit and systematic literacy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2444760" y="1420920"/>
            <a:ext cx="5278320" cy="516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FoR logo"/>
          <p:cNvPicPr/>
          <p:nvPr/>
        </p:nvPicPr>
        <p:blipFill>
          <a:blip r:embed="rId3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752480" y="1500120"/>
            <a:ext cx="7086600" cy="9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As you view the video clip, listen for the main messages about explicit, systematic, balanced and integrated literacy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Look for evidence of these within the video cl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Record the </a:t>
            </a:r>
            <a:r>
              <a:rPr b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main messages 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vidence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 in your workbook on the page, </a:t>
            </a:r>
            <a:r>
              <a:rPr b="0" i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xplicit, systematic, balanced and integrated literacy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357200" y="0"/>
            <a:ext cx="77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3669d"/>
                </a:solidFill>
                <a:latin typeface="Arial"/>
              </a:rPr>
              <a:t>Explicit, systematic, balanced and integrated literacy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FoR logo"/>
          <p:cNvPicPr/>
          <p:nvPr/>
        </p:nvPicPr>
        <p:blipFill>
          <a:blip r:embed="rId2"/>
          <a:stretch/>
        </p:blipFill>
        <p:spPr>
          <a:xfrm>
            <a:off x="7348680" y="557208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752480" y="1557360"/>
            <a:ext cx="70866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Turn to a partner: </a:t>
            </a:r>
            <a:r>
              <a:rPr b="0" i="1" lang="en-US" sz="2400" spc="-1" strike="noStrike">
                <a:solidFill>
                  <a:srgbClr val="08669d"/>
                </a:solidFill>
                <a:latin typeface="Arial"/>
              </a:rPr>
              <a:t>Say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Any implications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asse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plan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Tea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76520" y="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669d"/>
                </a:solidFill>
                <a:latin typeface="Arial"/>
                <a:ea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669d"/>
                </a:solidFill>
                <a:latin typeface="Arial"/>
                <a:ea typeface="Arial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Documents and Settings\Bob March\Local Settings\Temporary Internet Files\Content.IE5\MTY77AKM\j0140743[1].wmf"/>
          <p:cNvPicPr/>
          <p:nvPr/>
        </p:nvPicPr>
        <p:blipFill>
          <a:blip r:embed="rId3"/>
          <a:stretch/>
        </p:blipFill>
        <p:spPr>
          <a:xfrm>
            <a:off x="4214880" y="3000240"/>
            <a:ext cx="3189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752480" y="1557360"/>
            <a:ext cx="7086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Take one implication for 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</a:rPr>
              <a:t>assessing</a:t>
            </a: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, one for 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</a:rPr>
              <a:t>planning</a:t>
            </a: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 and one for 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</a:rPr>
              <a:t>teaching</a:t>
            </a: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 and put them in place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Record your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676520" y="46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ini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72D8-8B4B-4FFE-B042-59CC3640A32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Bob March\My Documents\NEW REFLECTION PHOTOS\fireworks_02.jpg"/>
          <p:cNvPicPr/>
          <p:nvPr/>
        </p:nvPicPr>
        <p:blipFill>
          <a:blip r:embed="rId1"/>
          <a:stretch/>
        </p:blipFill>
        <p:spPr>
          <a:xfrm>
            <a:off x="-1062000" y="-304920"/>
            <a:ext cx="11268000" cy="746784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3" descr=""/>
          <p:cNvPicPr/>
          <p:nvPr/>
        </p:nvPicPr>
        <p:blipFill>
          <a:blip r:embed="rId2"/>
          <a:stretch/>
        </p:blipFill>
        <p:spPr>
          <a:xfrm>
            <a:off x="738360" y="-231840"/>
            <a:ext cx="6978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752480" y="155736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76520" y="2890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669d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1428840" y="1214280"/>
            <a:ext cx="66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3669d"/>
                </a:solidFill>
                <a:latin typeface="Arial"/>
              </a:rPr>
              <a:t>An introduction to quality literacy teaching</a:t>
            </a:r>
            <a:r>
              <a:rPr b="0" lang="en-AU" sz="2000" spc="-1" strike="noStrike">
                <a:solidFill>
                  <a:srgbClr val="23669d"/>
                </a:solidFill>
                <a:latin typeface="Arial"/>
              </a:rPr>
              <a:t> (2009) Curriculum K-12 Directorate, NSW Department education and Training, Sydney, NS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57200" y="1500120"/>
            <a:ext cx="7786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 indent="-34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8669d"/>
                </a:solidFill>
                <a:latin typeface="Arial"/>
                <a:ea typeface="Arial"/>
              </a:rPr>
              <a:t>We acknowledge the traditional Custodians of this Land, where the Aboriginal People have performed age-old ceremonies of storytelling, music, dance and cele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8669d"/>
                </a:solidFill>
                <a:latin typeface="Arial"/>
                <a:ea typeface="Arial"/>
              </a:rPr>
              <a:t>We acknowledge and pay respect to the Elders past and present, and we acknowledge those of the future, for they will hold the memories, traditions and hopes of Aboriginal Austral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8669d"/>
                </a:solidFill>
                <a:latin typeface="Arial"/>
                <a:ea typeface="Arial"/>
              </a:rPr>
              <a:t>We must always remember that under the concrete and asphalt this Land is, was, and always will be traditional Aborigina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76520" y="142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Acknowledgement of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FoR logo"/>
          <p:cNvPicPr/>
          <p:nvPr/>
        </p:nvPicPr>
        <p:blipFill>
          <a:blip r:embed="rId2"/>
          <a:stretch/>
        </p:blipFill>
        <p:spPr>
          <a:xfrm>
            <a:off x="7172280" y="559260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Aboriginal Flag.JPG"/>
          <p:cNvPicPr/>
          <p:nvPr/>
        </p:nvPicPr>
        <p:blipFill>
          <a:blip r:embed="rId3"/>
          <a:stretch/>
        </p:blipFill>
        <p:spPr>
          <a:xfrm>
            <a:off x="357120" y="142920"/>
            <a:ext cx="18097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 Box 3" descr=""/>
          <p:cNvPicPr/>
          <p:nvPr/>
        </p:nvPicPr>
        <p:blipFill>
          <a:blip r:embed="rId2"/>
          <a:stretch/>
        </p:blipFill>
        <p:spPr>
          <a:xfrm>
            <a:off x="1328760" y="1096920"/>
            <a:ext cx="7308720" cy="474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676520" y="117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Professional Teach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FoR logo"/>
          <p:cNvPicPr/>
          <p:nvPr/>
        </p:nvPicPr>
        <p:blipFill>
          <a:blip r:embed="rId3"/>
          <a:stretch/>
        </p:blipFill>
        <p:spPr>
          <a:xfrm>
            <a:off x="7172280" y="5572080"/>
            <a:ext cx="1819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4e34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752480" y="1557360"/>
            <a:ext cx="70866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During this session you will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understand the cornerstones of quality literacy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xplore balanced and integrated literacy teaching and the</a:t>
            </a:r>
            <a:r>
              <a:rPr b="0" i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 Four Literacy Resources 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xplore explicit and systematic literacy teaching and </a:t>
            </a:r>
            <a:r>
              <a:rPr b="0" i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A process for explicit and systematic literacy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76520" y="117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Self-paced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52480" y="155736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357200" y="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The cornerstones of quality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FoR logo"/>
          <p:cNvPicPr/>
          <p:nvPr/>
        </p:nvPicPr>
        <p:blipFill>
          <a:blip r:embed="rId2"/>
          <a:stretch/>
        </p:blipFill>
        <p:spPr>
          <a:xfrm>
            <a:off x="7172280" y="552132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C:\Documents and Settings\KMCINNES8\Local Settings\Temporary Internet Files\Content.IE5\KRCVO16L\MCDD01402_0000[1].wmf"/>
          <p:cNvPicPr/>
          <p:nvPr/>
        </p:nvPicPr>
        <p:blipFill>
          <a:blip r:embed="rId3"/>
          <a:stretch/>
        </p:blipFill>
        <p:spPr>
          <a:xfrm>
            <a:off x="3429000" y="21430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9" descr=""/>
          <p:cNvPicPr/>
          <p:nvPr/>
        </p:nvPicPr>
        <p:blipFill>
          <a:blip r:embed="rId4"/>
          <a:stretch/>
        </p:blipFill>
        <p:spPr>
          <a:xfrm>
            <a:off x="2670120" y="1504800"/>
            <a:ext cx="1689120" cy="5986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10" descr=""/>
          <p:cNvPicPr/>
          <p:nvPr/>
        </p:nvPicPr>
        <p:blipFill>
          <a:blip r:embed="rId5"/>
          <a:stretch/>
        </p:blipFill>
        <p:spPr>
          <a:xfrm>
            <a:off x="5327640" y="1504800"/>
            <a:ext cx="2292480" cy="59220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11" descr=""/>
          <p:cNvPicPr/>
          <p:nvPr/>
        </p:nvPicPr>
        <p:blipFill>
          <a:blip r:embed="rId6"/>
          <a:stretch/>
        </p:blipFill>
        <p:spPr>
          <a:xfrm>
            <a:off x="2462040" y="5078520"/>
            <a:ext cx="2000520" cy="5968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12" descr=""/>
          <p:cNvPicPr/>
          <p:nvPr/>
        </p:nvPicPr>
        <p:blipFill>
          <a:blip r:embed="rId7"/>
          <a:stretch/>
        </p:blipFill>
        <p:spPr>
          <a:xfrm>
            <a:off x="5389560" y="5052960"/>
            <a:ext cx="2133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752480" y="155736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85920" y="712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The cornerstones of quality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C:\Documents and Settings\KMCINNES8\Local Settings\Temporary Internet Files\Content.IE5\KRCVO16L\MCDD01402_0000[1].wmf"/>
          <p:cNvPicPr/>
          <p:nvPr/>
        </p:nvPicPr>
        <p:blipFill>
          <a:blip r:embed="rId3"/>
          <a:stretch/>
        </p:blipFill>
        <p:spPr>
          <a:xfrm rot="2523000">
            <a:off x="3798720" y="233532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9" descr=""/>
          <p:cNvPicPr/>
          <p:nvPr/>
        </p:nvPicPr>
        <p:blipFill>
          <a:blip r:embed="rId4"/>
          <a:stretch/>
        </p:blipFill>
        <p:spPr>
          <a:xfrm>
            <a:off x="2560680" y="1504800"/>
            <a:ext cx="1687320" cy="5986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10" descr=""/>
          <p:cNvPicPr/>
          <p:nvPr/>
        </p:nvPicPr>
        <p:blipFill>
          <a:blip r:embed="rId5"/>
          <a:stretch/>
        </p:blipFill>
        <p:spPr>
          <a:xfrm>
            <a:off x="5834160" y="1504800"/>
            <a:ext cx="2292120" cy="59220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11" descr=""/>
          <p:cNvPicPr/>
          <p:nvPr/>
        </p:nvPicPr>
        <p:blipFill>
          <a:blip r:embed="rId6"/>
          <a:stretch/>
        </p:blipFill>
        <p:spPr>
          <a:xfrm>
            <a:off x="2371680" y="5065560"/>
            <a:ext cx="19987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824120" y="1500120"/>
            <a:ext cx="674856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Balanced and integrated literacy teaching is much more than providing a balance of semantic, graphophonic and syntactic cuing systems when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It ensur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students are equipped with the full range of literacy capabilities they need when they are reading, writing, listening and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the teaching of these literacy capabilities is embedded in real and authentic con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676520" y="0"/>
            <a:ext cx="72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Balanced and integrated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FoR logo"/>
          <p:cNvPicPr/>
          <p:nvPr/>
        </p:nvPicPr>
        <p:blipFill>
          <a:blip r:embed="rId2"/>
          <a:stretch/>
        </p:blipFill>
        <p:spPr>
          <a:xfrm>
            <a:off x="7348680" y="5643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71760" y="1557360"/>
            <a:ext cx="692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14680" y="71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  <a:ea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  <a:ea typeface="Arial"/>
              </a:rPr>
              <a:t>The Four Literac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86040" y="2643120"/>
          <a:ext cx="4714920" cy="2498760"/>
        </p:xfrm>
        <a:graphic>
          <a:graphicData uri="http://schemas.openxmlformats.org/drawingml/2006/table">
            <a:tbl>
              <a:tblPr/>
              <a:tblGrid>
                <a:gridCol w="2357640"/>
                <a:gridCol w="2357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Code-bre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Meaning-m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Text-u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Text-analy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</a:tr>
            </a:tbl>
          </a:graphicData>
        </a:graphic>
      </p:graphicFrame>
      <p:pic>
        <p:nvPicPr>
          <p:cNvPr id="161" name="Picture 12" descr="FoR logo"/>
          <p:cNvPicPr/>
          <p:nvPr/>
        </p:nvPicPr>
        <p:blipFill>
          <a:blip r:embed="rId2"/>
          <a:stretch/>
        </p:blipFill>
        <p:spPr>
          <a:xfrm>
            <a:off x="4214880" y="5622840"/>
            <a:ext cx="1776240" cy="123516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ular Callout 3"/>
          <p:cNvSpPr/>
          <p:nvPr/>
        </p:nvSpPr>
        <p:spPr>
          <a:xfrm>
            <a:off x="714240" y="928800"/>
            <a:ext cx="2071800" cy="1785960"/>
          </a:xfrm>
          <a:prstGeom prst="wedgeRoundRectCallout">
            <a:avLst>
              <a:gd name="adj1" fmla="val 102611"/>
              <a:gd name="adj2" fmla="val 4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need access to the words on the page – quickly and accurately</a:t>
            </a:r>
            <a:r>
              <a:rPr b="0" lang="en-US" sz="1800" spc="-1" strike="noStrike">
                <a:solidFill>
                  <a:srgbClr val="08669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ular Callout 3"/>
          <p:cNvSpPr/>
          <p:nvPr/>
        </p:nvSpPr>
        <p:spPr>
          <a:xfrm flipH="1">
            <a:off x="7000200" y="928800"/>
            <a:ext cx="2071800" cy="1785960"/>
          </a:xfrm>
          <a:prstGeom prst="wedgeRoundRectCallout">
            <a:avLst>
              <a:gd name="adj1" fmla="val 95453"/>
              <a:gd name="adj2" fmla="val 43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construct meaning using metacognitive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ular Callout 3"/>
          <p:cNvSpPr/>
          <p:nvPr/>
        </p:nvSpPr>
        <p:spPr>
          <a:xfrm>
            <a:off x="571680" y="4500720"/>
            <a:ext cx="2071440" cy="2286000"/>
          </a:xfrm>
          <a:prstGeom prst="wedgeRoundRectCallout">
            <a:avLst>
              <a:gd name="adj1" fmla="val 102527"/>
              <a:gd name="adj2" fmla="val -4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know they are reading the text to help them learn something or achieve something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ular Callout 3"/>
          <p:cNvSpPr/>
          <p:nvPr/>
        </p:nvSpPr>
        <p:spPr>
          <a:xfrm>
            <a:off x="7286760" y="4786200"/>
            <a:ext cx="1785960" cy="1857600"/>
          </a:xfrm>
          <a:prstGeom prst="wedgeRoundRectCallout">
            <a:avLst>
              <a:gd name="adj1" fmla="val -70981"/>
              <a:gd name="adj2" fmla="val -81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are able to make evaluative decisions /judgments about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643040" y="1285920"/>
            <a:ext cx="7196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Failing to provide students with explicit and systematic teaching is to leave important literacy learning up to students to ‘figure out’ for themselves, often resulting in frustration, disengagement and underachievement.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Explicit and systematic literacy teach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4d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should not be confused with ‘drill and practice’  or a return to authoritarian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4d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involves the deliberate explanation and demonstration of new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676520" y="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Explicit and systematic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3:41:30Z</dcterms:created>
  <dc:creator>rebecca</dc:creator>
  <dc:description/>
  <dc:language>en-US</dc:language>
  <cp:lastModifiedBy>bpryor</cp:lastModifiedBy>
  <dcterms:modified xsi:type="dcterms:W3CDTF">2009-10-19T21:29:50Z</dcterms:modified>
  <cp:revision>123</cp:revision>
  <dc:subject/>
  <dc:title>Slide 1</dc:title>
</cp:coreProperties>
</file>